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comments/comment2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774238"/>
</p:presentation>
</file>

<file path=ppt/commentAuthors.xml><?xml version="1.0" encoding="utf-8"?>
<p:cmAuthorLst xmlns:p="http://schemas.openxmlformats.org/presentationml/2006/main">
  <p:cmAuthor id="0" name="hh" initials="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27.xml><?xml version="1.0" encoding="utf-8"?>
<p:cmLst xmlns:p="http://schemas.openxmlformats.org/presentationml/2006/main">
  <p:cm authorId="0" dt="2012-03-26T19:03:53.156000000" idx="1">
    <p:pos x="5521" y="748"/>
    <p:text>tři různé významy cmp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49480" y="85392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0920" y="8539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d interakce: Kopírování polí v pascalu, pointry na bitové pol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0920" y="8539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d interakce: Kopírování polí v pascalu, pointry na bitové pol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00896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00896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00896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00896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00896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00896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8915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00896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00896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00896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timl.ms.mff.cuni.cz/~hric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itpress.mit.edu/sicp" TargetMode="External"/><Relationship Id="rId2" Type="http://schemas.openxmlformats.org/officeDocument/2006/relationships/hyperlink" Target="http://www.htdp.org/" TargetMode="External"/><Relationship Id="rId3" Type="http://schemas.openxmlformats.org/officeDocument/2006/relationships/hyperlink" Target="http://racket-lang.org/" TargetMode="External"/><Relationship Id="rId4" Type="http://schemas.openxmlformats.org/officeDocument/2006/relationships/hyperlink" Target="http://www.teach-scheme.org/" TargetMode="External"/><Relationship Id="rId5" Type="http://schemas.openxmlformats.org/officeDocument/2006/relationships/hyperlink" Target="http://www.gnu.org/software/mit-scheme/" TargetMode="External"/><Relationship Id="rId6" Type="http://schemas.openxmlformats.org/officeDocument/2006/relationships/hyperlink" Target="http://www.gnu.org/software/mit-scheme/" TargetMode="External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paulgraham.com/avg.html" TargetMode="External"/><Relationship Id="rId2" Type="http://schemas.openxmlformats.org/officeDocument/2006/relationships/hyperlink" Target="http://www.paulgraham.com/avg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paulgraham.com/diff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unkcionální programování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Jan Hric, KTI MFF UK,1997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1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 u="sng">
                <a:solidFill>
                  <a:srgbClr val="fc0128"/>
                </a:solidFill>
                <a:uFillTx/>
                <a:latin typeface="Courier New"/>
                <a:hlinkClick r:id="rId1"/>
              </a:rPr>
              <a:t>http://ktiml.ms.mff.cuni.cz/~h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míněné výraz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od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ky se vyhodnocu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 postupně, celková hodnota cond je hodnota výrazu za první pravdivou podmínk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není žádná podm. pravdivá, hodnota cond je nedefinovan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interpretujeme výraz jako boolovskou hodnotu, pak výraz nil, tj. 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j. #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, je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pravd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cokoli jiného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ecný t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cond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1 e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2 e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n 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define (abs x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cond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x 0)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(&lt; x 0) (- 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= x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)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typicky záchytná podmínka: els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becný t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odmínka výraz alternativ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ine (abs x ) (if (&gt; x 0) x (- x)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é spojk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define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= x y ) (or (&gt; x y) (= x y)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, or: libovol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 arg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vyhodnocení zleva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lín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l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negace, jeden argu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faktori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rekurzivn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(faktorial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if (= n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* n (faktorial (- n 1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hodnoco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ní, paměť O(n) – zásobník rozpracovaných vol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 3) ~&gt;(i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= 3 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 (…))~&gt;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#f 1 (* 3 (f (- 3 1))) ~&gt; (* 3 (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- 3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* 3 (f 2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* 3 (* 2 (f 1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* 3 (* 2 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* 3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ktorial - akumul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fine (faktorial n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; není rekurzivní, pouze „interfac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fine (f_it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uc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er n)  ; invariant: soucin = (counter-1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f (&gt; counter n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ci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; konec rekurze - vydání akumula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_iter (* soucin counter) (+ counter 1) n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; rekurze,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konec l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 de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_it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 n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pouze volání vlastní rekurze s ak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hodnocování, paměť O(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aktorial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_iter 1 1 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~&gt;(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&gt; c 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f_i(* 1 1)(+ 1 1)3)~*&gt;(f_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* 1 1)(+ 1 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_iter 1 2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_iter 2 3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_iter 6 4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c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ine (gcd a 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f (= b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cd b (remainder a b)) 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možňuje lokální označení hodnoty, tělo se vyhodnocuje v prostředí, kde každá prom.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ar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značuje hodnotu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x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měnné jsou charakterem matematické, tj. označení hodnoty, ne adre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ecný tv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let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ar1 exp1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ar2 exp2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arn exp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ělo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té použití: pro zvýšení efek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dnoty proměnných platí pouze v těle, ne v exp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de použít pro vzájemně rekurzivní definic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ty: let*  – dosud definova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la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 da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š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ex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rec –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hny definova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la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h expN – pro rekurziv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fi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 - příkl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define (f x 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let ( (pru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 (+ x y) 2)        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kvadrat (lambda (x) (* x x)) ) )   ; def. lok. funk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+ (kvadrat (- x prum)) (kvadrat (- y prum)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define (qsort 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if (null? xs)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let ((pair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spli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car xs) (cdr xs)) )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vraci dva seznam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append (qsor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(car pai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po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í první čá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cons (car xs) (qsort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cdr pai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) )))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 dru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voj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edi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sl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o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uktura,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konstrukto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s,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ekto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y car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d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kudr]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ine a (cons 1 2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. 2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tv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 a vypíše se tečka-dvoj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car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cdr a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gt; (c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1 ‘(2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znam vzni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z dvoj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cdr ‘(1 2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vojic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 pohod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í zápisů: odvozené fce cadr, caddr, 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živatelsk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lektor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define (caddr x) (car (cdr (cdr x))) 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define (tretiZeCtverice x4) (caddr x4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define (mkCtverice x y u v) (cons x (cons y (cons u v))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define (mkCtvericeT x y u v)   ; …s t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s ’ctverice (cons x (cons y (cons u v)))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n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fikaci (an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ern match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&gt; typic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ý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ř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p na sl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test druhu struktury (tagu) a následně selek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zna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znamy (i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in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y) z dvoj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zdný seznam: nil, 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cons 1 (cons 2 (cons 3 (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unk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konstrukce seznamu, s pro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ým počtem ar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list 1 2 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gt; (let ((a 1)(b 3))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(list a b (+ a b)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; args. se vyhodnocuj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1 3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gt; (null? ()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est na prázdny sezn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#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gt; (lis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#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unkcionální programován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 histo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lambda-kalkul, Alonzo Church 19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LISP 19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St Programm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L 1973 - Hindley-Millner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typ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v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yst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é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 odvozov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aLanguage - p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: skriptovac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jazyk pro dokazova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eme 19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on Lisp 1984 (ANSI CL 199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S Common Lisp Objec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lang 1986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: komerční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asivn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aralelizmus: tel.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dn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 sw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skell 199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skell 98 Stable+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aml 1996 Objective (Categorical Abstract Mach.La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ala 2003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integrace 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generuje J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# 200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ECD 1963 Virtuální a abstraktní stroj pro 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(Stack, Environment, Code, Du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rcury 1995 Logické progam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pracování seznam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define (nth n xs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vybere n-tý prvek z xs, bez ošetření chy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if (= n 1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dm. ukončení rekur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car xs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koncová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th (- n 1) (cdr xs)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rekurzivní volání, na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ěl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x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define (length xs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; spočítá délku sezn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if (null? x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 (length (cdr 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; není TRO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ength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uvnitř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define (reverse 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null? 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ppend (reverse (cdr 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(list (car 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v O(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^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 lin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ární složitost: reverse iterativně (s akum. param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ppend 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; předdefinová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if (null? 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then – vr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ť 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car xs) (append (cdr xs) ys)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kur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- buduje se nová datová struk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mb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tvoření anonymní funk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v inter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tvar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za běh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tj.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konstruktor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unkci m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ůž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me aplikovat na argumen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„selektor“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at jako paramet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časté použití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vl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do d.s., vypsat (n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ě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 &lt;&lt;function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funkce jso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v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ategorie”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funkce neinteraguje s jinými konstrukty jazyka, nemá výjimky použití): může být argument, výstup, prvek seznamu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vliv na styl: vytvoření funkce je laciné, tj. stručné (malá režie) -&gt; krátké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ecný tv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lambda (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formální_parametr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kDefs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těl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lambda (x)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x 1)) 6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funkce 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(lambda (x y) (+ x y)) 3 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s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gumen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(lambda (x) (+ x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 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,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odnotu vezmem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pros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in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ro funkc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yntaktick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ý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cuk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eduj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c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zy jsou ekv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ine (succ x) (+ x 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ine succ (lambda (x) (+ x 1)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roměnná succ se vyhodnotí na f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mb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8991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ambda se po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žívá typicky při předávání funkcionálních argument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gramy/fce lze parametrizovat (jednorázovým) kódem – tzv f. vyšších řádů, higher-order -&gt;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 Jedna f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ro různé použi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n.: „lambdu“ nevyužijete, pokud ji nemáte kam předat (nebo uschovat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iný styl program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! Funkcionální parametr je obecný způsob předání kó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ecnější než výběr z možností, než parametr pro funk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alší funkce lze definovat voláním s vhodnými parametry: mapSleva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slev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&gt; map (lambda (x) (* x 0.9)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0 40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; 10% sle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p 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f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ytv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ří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ý seznam stejné délky, nové prvky jsou výsledky použití funkce 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na jednotlivé prvky vstupního seznamu 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kce jako v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pn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odno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tvoření konstantní funkce 1 p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define (mkConstFnc c) (lambda (x)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; příkla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„c“ je zachyceno lokálně,  žije s funk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(m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onst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 7) 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odpo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ď 7, !dvojitá úvodní závor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unkce pričítání dané konstan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define (mkAddC c) (lambda (x)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c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(m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) 5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; argumenty se předávají samostatně (viz H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fine (twice f) (lambda (x) (f (f x))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DC pro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plika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gt; ((twice (twice kvadrat)) 3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; 3^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= (twice .^4)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meňte 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tegrál, derivace, ale zde: výpočet numericky, ne symbolic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ho-Corasicková: (Q,Sigma,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ou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-) kon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čítání carry-look-ahead: generate, kill, propagate - se skládán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lter, qs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jeden 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pr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šechny použití (i ty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define (filter p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ím s. prvky 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s, pro které platí p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cond ((null?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konec sez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(p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car xs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(cons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(car xs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filter p (cdr xs))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; opa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vání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el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(filter p (cdr xs)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)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dvojení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a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define (qs cmp xs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1. (cmp a b) vrací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if (null? xs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2. cmp je rozumná abstrakce: detaily schova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s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3: třídí vždy vzestupně a vždy celé obj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append (qs cmp (filter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(lambda (x)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mp x (car xs))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dr xs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s (car xs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řidání hlavy xs „doprostřed“ výsled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qs cmp (filter (lambda (x)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mp x (car xs)))) (cdr xs))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neefektivní: (car xs) se opakuje, odstranit pomocí 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qsor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funkcionální para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ávání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p 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př. jako lambda funk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qs (lambda (d1 d2) (&lt; (car d1) (car d2))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voji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le první slož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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ůzné aplikace,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polymorfizmu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ast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praco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ní dat je „delegováno“ do funkc. parametrů: cmp, p (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e be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dedičnost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Lze zavést globální definici, srovnání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gt; (define (mujCmp x y) …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; nevhodné pro jednorázové defi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gt; (qs mujCm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stupné“ třídění, s chyb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gt;* (qs (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mujCm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)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; not neguje hodnoty, ne f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gt; (qs (lambda (x y) (not (mujCmp x y))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))  ;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Definice zdvihu (progr. idi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gt; (define (zdvihF2 op f) (lambda (x y) (op (f x y))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gt; (qs (zdvihF2 not mujCmp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)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stupná konstrukce funkce skládáním z jednodušších bez použití lamb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Quicksort a spl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s fnc. parametrem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define (qsort cmp xs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; cmp je funkcionální param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if (null? xs) x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let ((pair (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li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mp (car xs) (cdr xs)) )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vrac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va sezna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append (qso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p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car pai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cons (car xs) (qs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m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cdr pair))) 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define (split cmp x y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vrac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voji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tj. 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if (null? 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cons () ()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dvojice prázdný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let ((pair (split cmp x (cdr ys))))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pamatuje si dvojici z r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if (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c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ar ys) x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přidá hlavu ys ke správné slož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s (cons (car ys) (car pair))  (cdr pair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s (car pair)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ons (car ys) (cdr pai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3505320"/>
            <a:ext cx="2514600" cy="380880"/>
          </a:xfrm>
          <a:prstGeom prst="wedgeRoundRectCallout">
            <a:avLst>
              <a:gd name="adj1" fmla="val -71717"/>
              <a:gd name="adj2" fmla="val -54166"/>
              <a:gd name="adj3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finiční výsky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4038480"/>
            <a:ext cx="2819520" cy="381240"/>
          </a:xfrm>
          <a:prstGeom prst="wedgeRoundRectCallout">
            <a:avLst>
              <a:gd name="adj1" fmla="val -110981"/>
              <a:gd name="adj2" fmla="val 65833"/>
              <a:gd name="adj3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ávání fun.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105520"/>
            <a:ext cx="1752480" cy="761760"/>
          </a:xfrm>
          <a:prstGeom prst="wedgeRoundRectCallout">
            <a:avLst>
              <a:gd name="adj1" fmla="val 59782"/>
              <a:gd name="adj2" fmla="val -48125"/>
              <a:gd name="adj3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olání, tj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ži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 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s symbolic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 d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argument se nevyhodnocuje, typicky složený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tručná forma: apostr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nstanty lze p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z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čísla 3 3.14, znak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\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řetěz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a”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logick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#t #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define 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define b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list a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list (quote a)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ist ‘a ‘b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; stručněji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b), tj. (qu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a b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car (quo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a b c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; quote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cel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truktury, pokud se v ní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ni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nevyhodnoc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list ‘car (list ‘quote ‘(a b c)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str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 ‘(car (quote (a b c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ar (quote (a b c)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 reprezentac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zdrojového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zn.: s reprezenta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ůže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manipulovat, s přeloženou (lambda-)funkcí nik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neprobírané backquote a čárka): `((a ,a) (b ,b)(s ,(+ a b)) ~&gt;((a 1)(b 2)(s 3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5257800"/>
            <a:ext cx="5638680" cy="304920"/>
          </a:xfrm>
          <a:prstGeom prst="wedgeRoundRectCallout">
            <a:avLst>
              <a:gd name="adj1" fmla="val -66722"/>
              <a:gd name="adj2" fmla="val 65106"/>
              <a:gd name="adj3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kládání po úrovních, pokud se část str. vyhodnoc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omplexn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í čís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plikac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strukt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 “typovou” informa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ag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 druhu struk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efine (mkPolar z fi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struktory datové struk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c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polar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cons z fi)) 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olární tvar, ta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‘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efine (mkRect re im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analogicky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struk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r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av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ý t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a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‘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c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rect (cons re im)) 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mplementace: trojice, ze dvou dvoj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unk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j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mu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 přijímat obě reprezent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efine (isRectTag c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q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‘rect (car c)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test tag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efine (re c) (car (cdr x))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selek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efine (im c) (cdr (cdr x))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; !není to třetí prvek seznamu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efine (toRect c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vod na pravoúhlý t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if (isRectTag c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test tag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ct tvar c bez změ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mkRect (*  (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d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c)(cos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(cdd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c))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elektory: velikost, úh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*  (cadr c)(sin (cddr c))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ýpočet imag. slož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 ) 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ýstup je vždy pravoúhly tvar – v else konstr. mk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azyk přizpůsobím doméně – budování programu (knihoven) odspo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 flipH="1">
            <a:off x="7009560" y="3352680"/>
            <a:ext cx="22932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/>
          <p:nvPr/>
        </p:nvCxnSpPr>
        <p:spPr>
          <a:xfrm>
            <a:off x="7238880" y="3352680"/>
            <a:ext cx="15336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6400800" y="3733920"/>
            <a:ext cx="609480" cy="380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 flipH="1">
            <a:off x="7238520" y="3809880"/>
            <a:ext cx="153360" cy="610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/>
          <p:nvPr/>
        </p:nvCxnSpPr>
        <p:spPr>
          <a:xfrm>
            <a:off x="7391160" y="3809880"/>
            <a:ext cx="153000" cy="610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6553080" y="4419720"/>
            <a:ext cx="685800" cy="380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realn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419720"/>
            <a:ext cx="761760" cy="380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im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nkcionální programová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iteratur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k Scheme  (dialekt Lispu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Interpretation of Computer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. Abelson, G. J. Susmann, J. Sus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T Press 1985 –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http://mitpress.mit.edu/sic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M. Felleisen, …: How to Design Programs, MIT Press,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2"/>
              </a:rPr>
              <a:t>http://www.htdp.or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mpl: Racket (dříve DrScheme):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3"/>
              </a:rPr>
              <a:t>http://racket-lang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400" spc="-1" strike="noStrike" u="sng">
                <a:solidFill>
                  <a:srgbClr val="fc0128"/>
                </a:solidFill>
                <a:uFillTx/>
                <a:latin typeface="Times New Roman"/>
                <a:hlinkClick r:id="rId4"/>
              </a:rPr>
              <a:t>http://www.teach-scheme.org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IT Sche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5"/>
              </a:rPr>
              <a:t>http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6"/>
              </a:rPr>
              <a:t>://www.gnu.org/software/mit-scheme/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ka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a MFF: NAIL078-9, prof. Štěpánek, Lambda-kalkulus a funkcionální programování I a II, 2/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omplexní čísla - sou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efine (+compl x y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oučet komplexních čísel, ve dvojí reprezent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if (and (isRectTag x) (isRectTag y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mkRect (+ (re x)  (re y)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rovnej s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+ (im x) (im y))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+compl (toRect x) (toRect y)) )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ez pomocných definic, části kódu se opakují – náchylné k chybám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efine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compl x 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omplex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f (and (eq? ‘rect (car x)) (eq? ‘rect (car y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 ‘rect (cons (+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d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)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d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selektor re,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+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dd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) (cddr y)) 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f (eq? ‘polar (car x)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else: u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i š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g., 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olej rekurziv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+compl (t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t x) 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b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d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+compl x (t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t y)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anebo 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d y, neefektiv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d (A)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ta 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ě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e selektory se lépe mění (tj. udržuje)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s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užívá častěji/opakovaně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; 2. je kratší), pochopitelná pro doménového experta 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RY : D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 Repeat Your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n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ární str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trom: buď nil, anebo trojice, kterou vytváří konstruktor mk_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efine (mk_t l x r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konstruk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neprázdneho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rcho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cons x (cons l r))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trojice ze dvou dvoji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(implementace: dvě buňk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efine (getl t) (cadr t)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selektory: get le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ine (getr t) (cddr t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get pra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ine (getval t) (car t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get hodno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ine (nullT? t) (null? t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test druhu struk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ta: (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én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fektiv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 pa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ěť – tři buňk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ine (mk2_t l x r) (list x l r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Vk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 bi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 str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ine (insert x 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f (nullT? t) (mk_t () x (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uko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kurze, p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d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f (&lt; x (getval t)) (mk_t (insert x (getl t)) (getval t) (getr 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k_t (getl t) (getval t) (insert x (getr t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insert 3 (mk_t () 1 (mk_t () 2 () )) 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lad tvor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rom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s. typicky generuje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C: konstruktory pro list ve stromě (mkList/1), strom s pouze levým/p. podstrom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kcion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ální parametry, podruh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define  (map f xs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transformace xs fcí f po prvcích 1: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if (null? x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s (f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c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(map f (cdr 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) 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fine (matrix_map f 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ambda (vect)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 vect)) m)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dvě úrovně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matrix_map (lambda (x) (* 10 x)) ‘((1 2 3) (4 5 6)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define (transp m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transpozice matice, použití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if (null? (car m)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je prv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á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 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d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vrať prázdnou ma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cons (map car m) (transp (map cdr m))) )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poj 1.ř. a transp. zbyt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n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do map předáváme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funk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bez quote, tj. ne jména f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C: zarovnání matice na délku nejdelšího řádku, doplnit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l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š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ř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lady - cvi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 kombin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eric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rivace (a integr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vojice parc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 deriva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nerova s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u 1)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ř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 2) kompilace do funkce 3) kompilace do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race sig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konvolu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, ska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istogram: (zpracování: filter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ap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edu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sort,group,ha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ůměr, (mergesort), rychlé umocňování (a opakovaná aplikace f. – pro stavové prog.), DFT Fourierova transformace, Fibonacciho čísla – 2 způsoby - a řady, součet čtverců odchylek – pro metodu nejmenších čtverců, a chi^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erick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erivace v bod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pok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spojitou funkc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s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nici zleva a zprava v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+-del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oz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mu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me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š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(nefunguje pro inflex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ine (der f x eps del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f (&gt; eps (abs (- (smernice f x (+ x delta) del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mernice f (- x delta) x delta) 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mernice f x (+ x delta) delt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konec ite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r f x eps (/ delta 2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zme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lta, a rekur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(der (lambda (x) (* x x x)) 2  0.001  0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: po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 let pro zapamatov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: p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jte pouze derivaci zprava a z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s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nic mu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pod e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vojice parc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 deriva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(u,v) v bo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ř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lad na vyt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á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edno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ú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o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 funkc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omoc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amb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ine (parcDer  g  x y  eps delt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DC: nebo x a y v dvoj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 (der (lambda (z) (g z y)) x eps del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r (lambda (z) (g x z)) y eps delta) 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rnerovo schem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eficienty od a_0 k a_n v sezna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C: koeficienty v op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p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ř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vy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akum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nta 1: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ř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ine (hs1 koefs 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f (null? koe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+ (car koefs) (* x (hs1 (cdr koefs) x))) 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hs1 ‘(1 2 3 4) 1.5)  ; pro 4x^3+3x^2+2x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rnerovo schema 2 - kompi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vence stej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s2 vra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kci jed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ine (hs2 koe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f (null? koe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ambda (x) 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edek je konstant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k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ambda (x) (+ (car koefs) (* x ((hs2 (cdr koefs)) x)))) 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(hs2 ‘(1 2 3 4)) 1.5)  ; d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d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rk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vo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s2 na s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 arg. (tj. koefs) vra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kci, kte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 aplikuje na s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 arg. (t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odnotu 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rnerovo schema 3 – vytvo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z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st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koeficien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oef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(symbolic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j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ine (hs3 koefs p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f (null? koe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ist ‘+ (car koefs) (list ‘* pr (hs3 (cdr koefs) pr))) ; 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hs3 ‘(1 2 3 4) ‘x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+ 1 (* x (+ 2 (* x (+ 3 (* x (+ 4 (* x 0))))))))  ;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r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let ((a 1.5))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v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hs3 ‘(1 2 3 4) ‘a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ckqu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: `(+ ,(car koefs)(* ,pr ,(hs3 (cdr koefs) pr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quote (`) buduje strukturu bez vyhod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co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ke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k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hodnocu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výrazy (uvnitř - vyplňuje díry/hoo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trace sign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kovat da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in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iltr na sig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lt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zna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fine (filtrace koefs x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f (&gt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length koef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ength xs)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test 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ky vstupu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k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s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s (skalSouc koefs xs) (filtrace koefs (cdr xs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fine (skalSouc xs y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predp. |ys| &gt;= |xs|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f (null? x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+ (* (car xs) (car ys)) (skalSouc xs (cdr ys))) 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: z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 f. filtrace, aby se 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ka koefs (A) nep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a opakova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: 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 skalSouc na p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moc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kumu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C-pokročilé: pro dané xs vraťte funkci (jednoho argumentu: seznamu ys), která počítá filtr (konvoluci) s koeficienty x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: Fast Discrete Fourier Transform, 2 ver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7668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 Komplex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ísla – (jednoduché) kombin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yCompl použije správnou z dvou daných funkcí (jednoho arg.) podle tagu, ale nechceme zbytečně převádět reprezentace (-lift na va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define (anyCompl fRect fPolar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kombinujeme 2 fce pro různé rep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lambda (x)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vracíme f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if (isRectTag x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atc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 podle tag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ect x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užijeme jednu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Polar x) ))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nebo dru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mame jen jednu fci, druhou reprezentaci musíme převé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define (rectF2compl fRec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fce pr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ct tvar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ro lib. kompl.č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lambda (x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vracíme f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(anyCompl fR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užijeme kombinátor, Arg1 stejn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lambda (y) (fRect (toRect y))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rg2 přev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x ) )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rgument pro anyCo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(rectF2compl conjugateR) (mkPolar (- pi 4) 2)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užití (+D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Haskellu se tato úroveň práce s funkcemi ztratí (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jednoduš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roč FP a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kladní myšlenky jsou jednoduché a přehledn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d jednoduchým jazykem se lépe budují rozšíření i teor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s programy, tj. synt. stromy, se lépe manipuluje; „generátory“ programů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ímý přepis matem. formulací do (části) programu (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eklarativní,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opt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 MIT se učí první jazyk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aktuální: rysy FP se přidávají do skriptovacích jazyků (Python, Ruby) i jinde: Scala,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mbda v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z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funkce vyššího řá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Closu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další perspektivní znal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iný styl: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Kompozič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rogramování (zákl. bloky a glue), bezstavové progra-my (lépe se skládají), zpracování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celý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truktur (vs. OOP) – interpretace a rek. průchod, (CPS - Continuation passing style, stavové programování), (jiné návrhové vzory a idiom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izpůsobení jazyka na problém (bottom-up),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DS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doménově specifické jazyky, (kombináto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 Haskellu: Typy - implicitní typová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(fantomové 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monády (pro podporu sideefektů (I/O), backtrackingu, stavu, kontextu, …), 2D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l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š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ysy jazy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uschování funkce s několika fixovanými argumenty ( a/nebo proměnnými v prostřed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ce funkc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 pro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p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 argum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t!, set-car!, set-cdr! … – destruktivní přiřaz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vyhodnocení výrazu (nelze v Hs kvůli typů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ply – aplikace f. na ar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quote – vytv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t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dovoluje vyhodn. podvýrazy (vs. quote), čárka pro vyhodnocované výr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ra – syntaktic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form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y, alist – association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-with-current-continuation – call/cc - ~skok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řídící struk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uti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hell skripty, CGI skrip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torie a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yntax pro programy (a la Algol 60) se mezi programátory nechytla – programy jako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d DSL: P. J. Landin, The Next 700 Programming Languages, Communications ACM,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1966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vol. 9(3):157—1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"Greenspun's Tenth Rule of Programming: any sufficiently complicated C or Fortran program contains an ad hoc informally-specified bug-ridden slow implementation of half of Common Lisp."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hilip Greensp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Každý dostatečně rozsáhlý systém v C nebo Fortranu obsahuje ad-hoc, neformálně specifikovanou, chybovou a pomalou implementaci aspoň poloviny Common LISP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ots of Irritating Simple Pare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eating the Averages, </a:t>
            </a:r>
            <a:r>
              <a:rPr b="0" lang="cs-CZ" sz="20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cs-CZ" sz="2000" spc="-1" strike="noStrike" u="sng">
                <a:solidFill>
                  <a:srgbClr val="fc0128"/>
                </a:solidFill>
                <a:uFillTx/>
                <a:latin typeface="Times New Roman"/>
                <a:hlinkClick r:id="rId2"/>
              </a:rPr>
              <a:t>://www.paulgraham.com/avg.htm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Vývoj systému pro elektronické obchody (1995): interaktivní vývoj a rychlé doprogramování rysů (na žádost/otázku „A máte tam toto?“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hypotetický jazyk Blub na škále síly: když se progr. dívá nahoru, neuvědomí si  to, protože myslí v Blub -&gt; pohled shora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ic Raymond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„Lisp udělá programátora lepším“) („větší síla“: nejde naprogramovat funkcí, ale nutno interpretovat zdrojá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cheme (vs. LISP): bloková struktura, lexikální rozsahy platnosti proměnný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Beating the Averages"/>
          <p:cNvPicPr/>
          <p:nvPr/>
        </p:nvPicPr>
        <p:blipFill>
          <a:blip r:embed="rId3"/>
          <a:stretch/>
        </p:blipFill>
        <p:spPr>
          <a:xfrm>
            <a:off x="168120" y="46080"/>
            <a:ext cx="26514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makes LISP differ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Graham, </a:t>
            </a:r>
            <a:r>
              <a:rPr b="0" lang="cs-CZ" sz="28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http://www.paulgraham.com/diff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íněný příkaz if-then-else (Fortran nemě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go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unkční typ, jako objekt prvn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katego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kur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ý koncept promenných, jako ptr. (matematické 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gramy se skládají z výrazů (ne příkaz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ymboly (nejsou to strin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tace pro kód (synt. strom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s-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 vždy dostupný celý jazyk/systém. Nerozlišuje se read-time, compile-time, run-time. (makra, DSL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Jazyk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me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pret: read - eval – print cyk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mpt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říklad volání, zapsáno pomocí s-výraz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(v Scheme: pouze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efixní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notace se závorkami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+ 2 (* 3 5 1)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; komentář do konce řád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odpově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i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í části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 ) mezera identifi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átory čísl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apostrof …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i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jsou: null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 atom? , number?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q? , symbol? ;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comp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;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set!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t*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: prefixní, první je operátor (tj. funkce), pak operand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vol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á 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fce a1 a2 ... a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ez čárek: složené argumenty jsou (opět) v závork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ata i programy mají stejnou syntax: s-výraz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exit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; ukončení prá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Jazyk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me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počet: převedení výrazu na vyhodnocení tvar, podle def. f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yhodnocování – volání hodnoto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tj. dychtiv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eager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yhodnocení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kc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(!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rgumentů, pak aplikace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(vyhodnocené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 fun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onstanty se taky vyhodnocují: na „objekty“ k nim přiřaz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aždý výraz vrací hodnotu (ne nutně jednoduchou -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! vrácená hodnota může být taky datová struktura (dvojice, seznam, …) nebo funk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odnota implementačně: jednoduchá hodnota nebo pointr na složen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a sebe se vyhodnocují: čísla, #f, #t, ()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peciální formy – vestavěné opera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sémantika, místo klíčových slov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tejný syntaktický tvar jako funkce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rozšíření jazyka se neodlišuje ;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áln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my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(místo klíčových slo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finice funkcí a hod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on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mínka,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tvoření funkce jako obje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okální definice proměn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vojice – Datové struk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tvoření dvoji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ato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ý) konstru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ar, cd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lektory první a druhé složky z dvoj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tvoření seznamu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oc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 dvoj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bránění vyhodnocování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ymbolické hodno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kraco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ko apostr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ritmetika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+,-,*,/,=, &lt;, &gt;=, and, or, no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ř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lad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ppend x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vra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zna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který vznikne spojením xs a 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if (null? x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; test na prazdny seznam x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then – v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ť 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cons (car xs) (append (cdr xs) ys)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else – rekur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vra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ložen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nepo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bujem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lok. proměnné –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spočítaná hodnota se hned použi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ako ar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efine (isRectTag c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q ‘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(car c)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test tag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efine (toRect c) …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moc složité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&gt; pozdě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efine (mkRect x y) (c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ct (cons 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y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konstruktor, s tag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efine (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+comp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x y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oučet komplexních čísel, ve dvojí reprezentaci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p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efine (re c) (car (cdr x))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selek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efine (im c) (cdr (cdr x))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l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fini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lépe v knihovn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krátké defini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0. bez opakování kódu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1. kompoziční prog, 2. nesouvisí s i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if (and (isRectTag x) (isRectTag y)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test obou pravoúhlých tva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mkRect (+ (re x) (re y)) (+ (im x) (im y))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oučet po složk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+compl (toRect x) (toRect y)) )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nebo přev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kurziv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) vol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možňuje pojmenovat funkce a hodno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ktic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ý t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defin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mén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formalní_parametr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kalni_defini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funkci i hod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ěl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vojice j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objekt se uchovávají v prostředí (enviro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bstrakce paměti (tj. dvojic adresa-hodn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define delka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k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define vrac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finova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ine (plus4 x) (+ x 4)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definice fun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ine (kvadrat x) (* x x 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vad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kvadr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lk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volání fun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7T14:06:04Z</dcterms:created>
  <dc:creator>Laborator Barbora</dc:creator>
  <dc:description/>
  <cp:keywords/>
  <dc:language>en-US</dc:language>
  <cp:lastModifiedBy>hh</cp:lastModifiedBy>
  <cp:lastPrinted>1998-01-11T14:42:32Z</cp:lastPrinted>
  <dcterms:modified xsi:type="dcterms:W3CDTF">2012-04-16T13:06:14Z</dcterms:modified>
  <cp:revision>233</cp:revision>
  <dc:subject/>
  <dc:title>Vestavěné predikáty</dc:title>
</cp:coreProperties>
</file>